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F095-EC1D-4904-A557-4EDC0103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11A0-2DCC-4310-8B1A-FC625DEF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B820-DA07-4D44-A789-06F52B7A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F399-296E-4FEF-9664-ADB7EAE3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943F-8909-42AB-A7F6-9470A28F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A12B-7247-45A8-AC2C-C5F165F4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396D-2B56-4E9E-B237-5128A3C9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9D1-BA38-4480-9E1A-2D764E23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CB9D-1DAF-440B-9984-3ABBDFF8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F75B-0B0B-4D32-B04B-D39A9CB2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9E58-EC3E-48C0-BD95-57E75B9D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6007-FFA7-422E-AAA3-69C8CD45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F1FD-BF64-427B-A734-6BC458E6D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ниверзитет у Крагујевцу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акултет медицинских наук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сновне струковне студије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иох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ставна јединиц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800" spc="-1" strike="noStrike">
                <a:solidFill>
                  <a:srgbClr val="000000"/>
                </a:solidFill>
                <a:latin typeface="Calibri"/>
              </a:rPr>
              <a:t>Гвожђе и хемоглоби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C:\Users\Radica\Downloads\unlogo.png"/>
          <p:cNvPicPr/>
          <p:nvPr/>
        </p:nvPicPr>
        <p:blipFill>
          <a:blip r:embed="rId1"/>
          <a:stretch/>
        </p:blipFill>
        <p:spPr>
          <a:xfrm>
            <a:off x="457200" y="304920"/>
            <a:ext cx="1428840" cy="1724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Radica\Desktop\Logo_FMN_256.png"/>
          <p:cNvPicPr/>
          <p:nvPr/>
        </p:nvPicPr>
        <p:blipFill>
          <a:blip r:embed="rId2"/>
          <a:stretch/>
        </p:blipFill>
        <p:spPr>
          <a:xfrm>
            <a:off x="7070760" y="317520"/>
            <a:ext cx="15606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Хемопроте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опротеини су протеини који садрже хем као простетичну груп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оглобин, миоглобин и цитохро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 је група коју чине четири пиролова прстена, а у средини структуре се налази гвожђе или бак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Хемоглоб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b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95-98%)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ји је изграђен из 2 алфа и 2 бета ланц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bA</a:t>
            </a:r>
            <a:r>
              <a:rPr b="0" i="1" lang="sr-R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(2-3%) који је изграђен из 2 алфа и 2 делта ланца, а постоји у малој количини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1%)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3200" spc="-1" strike="noStrike">
                <a:solidFill>
                  <a:srgbClr val="000000"/>
                </a:solidFill>
                <a:latin typeface="Calibri"/>
              </a:rPr>
              <a:t>HbF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(фетални хемоглобин)</a:t>
            </a: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ји је изграђен из 2 алфа и 2 гама ланца глоб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HbA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Calibri"/>
              </a:rPr>
              <a:t>1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ликозилирани хемоглобин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b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1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стаје процесом гликозилације хемоглобина, односно везивањем молекула глукозе из крви за хемоглоб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ормалне вредности гликозилираног хемоглобина износе 5-8% од укупне количине хемоглоб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еривати хемоглоб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арбоксихемоглобин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улфхемоглобин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етхемоглоб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Хемоглобинопат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оглобинопатије су болести или стања која настају услед недовољне продукције хемоглобина и/или синтезе неадекватног, односно нефункционалног хемоглоб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јчешће хемоглобинопатије су анемија српастих ћелија и таласем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немија српастих ћел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HbF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не бива у детињству замењен </a:t>
            </a: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HbA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, већ се синтетише дефектни </a:t>
            </a: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Hb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Hb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адржи 2 нормална алфа ланца и два мутирана бета ланца глоб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олекули </a:t>
            </a: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Hb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варају агрегате и влакна која деформишу еритроците у ћелије које немају биконкаван, већ српаст об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аласем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Таласемије су болести код којих је синтеза глобина неправил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езултат дефектне синтезе хемоглобина је да су еритроцити смањено пребојени (хипохромни) и смањени (микроцитни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Организам покушава да компензује анемију повећаном продукцијом еритроцита и бујањем хематопоезног тки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Гвожђ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Гвожђе је један од најважнијих микроелемената чија је основна улога у нашем организму да у оквиру хемоглобина учествује у транспорту кисеоника од плућа до тки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оличина гвожђа у организму је првенствено регулисана процесом апсорпције, а значајно мање његовим излучивањем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Унос гвожђ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ваког дана би требало унети око 10-2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g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вожђ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јер се само 5-10% апсорбу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невне потребе износе око 1-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 храни је оно присутно везано за хем или као слободно 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(II)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, односно редукованом 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e(III)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, односно оксидованом обли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Феритин и хемосидер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еритин је депо гвожђа који настаје када се за протеин, апоферитин, веже гвожђ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осидерин је нерастворни, агрегирани дериват феритина који се налази у форми грану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драва одрасла особа има депое гвожђа које су јој довољне и за период до 3 го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рансфер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ада је количина гвожђа смањена у организму, ћелије мукозе садрже мање апоферитина, чиме се оно не задржава у ћелијама мукозе цре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вожђе се онда везује за апотрансферин који синтетише јетра, чиме настаје трансферин, транспортни протеин за гвожђ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Фактори који утичу на апсорпцију гвожђ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већана хематопоеза </a:t>
            </a:r>
            <a:r>
              <a:rPr b="0" lang="sr-R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итамин </a:t>
            </a: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sr-R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анини, фосфати, фитати и оксалати 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есекција желуца и црева 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Губитак гвожђ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купни дневни губитак гвожђа је око 1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m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Жене имају додатни губитак од око 5-6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g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вожђа путем менструалног циклуса, док се током трудноће троши још око 1,5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g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нев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Вредности гвожђ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ормалне вредности гвожђа у плазми износе од 6,5 до 29,5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mol/L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а мушкарце и 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5,5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до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28,5 mmol/L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за же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нижене вредности гвожђа у плазми доводе до анемије, а повишене до оштећења орг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осидер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Параметри за испитивање статуса гвожђ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нцентрација гвожђа у плаз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декси еритроцита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CV, MCH, MCH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орфологија еритроци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редности хемоглоб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ансферин у серу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еритин у серум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BC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(укупни капацитет везивања гвожђ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1T17:53:23Z</dcterms:created>
  <dc:creator>М</dc:creator>
  <dc:description/>
  <dc:language>en-US</dc:language>
  <cp:lastModifiedBy>М</cp:lastModifiedBy>
  <dcterms:modified xsi:type="dcterms:W3CDTF">2019-11-14T18:25:01Z</dcterms:modified>
  <cp:revision>16</cp:revision>
  <dc:subject/>
  <dc:title>Slide 1</dc:title>
</cp:coreProperties>
</file>